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512C-28AD-448E-B38B-72A41388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6C39-B45C-4275-B0BD-87B81271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8D86-422B-4710-9FEC-D4B5CF42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6D03-1D94-4CA8-87AB-C8F0E232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918B-22D3-45E8-B4DE-A2A8AF8C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36F4-5602-4B7D-8128-7F37267C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9C41-6A10-44D8-8424-1469B2CF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4C4C-1522-417A-A42A-1847FABF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58DE-3AFD-486B-8586-E0E95261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2A87-0D8C-4B30-92B2-58D7A012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87D3-2FB0-4CDE-95EF-01F227A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84F5-C85D-480B-B884-277773F9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2771-229C-4D3F-92AD-0675ADC34E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Image:HueyPLong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icalvoices.org/flint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12.2:  The Second New Deal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Social Security"/>
          <p:cNvPicPr/>
          <p:nvPr/>
        </p:nvPicPr>
        <p:blipFill>
          <a:blip r:embed="rId1"/>
          <a:stretch/>
        </p:blipFill>
        <p:spPr>
          <a:xfrm>
            <a:off x="152280" y="22320"/>
            <a:ext cx="883764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.  Critics of New Dea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13712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  Right wing/Conservatives (Republican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Deficit spending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needed to support programs; not goo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usiness regulated too much b gov’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 Political Left/Liberals (Democrat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anted more for the middle cl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8" name="Picture 6" descr="http://herb.ashp.cuny.edu/files/download/443/fullsize"/>
          <p:cNvPicPr/>
          <p:nvPr/>
        </p:nvPicPr>
        <p:blipFill>
          <a:blip r:embed="rId1"/>
          <a:stretch/>
        </p:blipFill>
        <p:spPr>
          <a:xfrm>
            <a:off x="4826160" y="1981080"/>
            <a:ext cx="43178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.  Senator Huey Long (L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hare our Wealth” club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ake from the rich, give to the poor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294000" y="22003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-788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294000" y="22003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-788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Picture 6" descr="Huey Lo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211480"/>
            <a:ext cx="36576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C.  Programs under the 2</a:t>
            </a:r>
            <a:r>
              <a:rPr b="0" lang="en-US" sz="3600" spc="-1" strike="noStrike" baseline="30000">
                <a:solidFill>
                  <a:srgbClr val="675e47"/>
                </a:solidFill>
                <a:latin typeface="Cambria"/>
              </a:rPr>
              <a:t>nd</a:t>
            </a: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 New Deal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24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  Works Progress Administration (WPA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argest public works program; &gt; $11 B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ut 8.5 million to wor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  Federal Number On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ogram for artists, musicians, theater people, and writ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6" descr="http://creativecapital.files.wordpress.com/2008/11/newdeal.jpg"/>
          <p:cNvPicPr/>
          <p:nvPr/>
        </p:nvPicPr>
        <p:blipFill>
          <a:blip r:embed="rId1"/>
          <a:stretch/>
        </p:blipFill>
        <p:spPr>
          <a:xfrm>
            <a:off x="4238640" y="1670040"/>
            <a:ext cx="49053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.  Supreme Court Reactio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36840"/>
            <a:ext cx="38862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elt the following Acts were unconstitution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A: should be regulated by state not federal gov’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RA: gov’t only allowed to regulate interstate commerce and not have business regul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.  Labor Reform: Wagner Act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.  AKA National Labor Relations Boar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838080" indent="-380880">
              <a:spcBef>
                <a:spcPts val="499"/>
              </a:spcBef>
              <a:buClr>
                <a:srgbClr val="9cbebd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d right to unioniz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38080" indent="-380880">
              <a:spcBef>
                <a:spcPts val="499"/>
              </a:spcBef>
              <a:buClr>
                <a:srgbClr val="9cbebd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istens to claims of unfair labor practices = binding arbitr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38080" indent="-380880">
              <a:spcBef>
                <a:spcPts val="499"/>
              </a:spcBef>
              <a:buClr>
                <a:srgbClr val="9cbebd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day: acts as mediator between workers/unions and employ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38080" indent="-380880">
              <a:spcBef>
                <a:spcPts val="499"/>
              </a:spcBef>
              <a:buClr>
                <a:srgbClr val="9cbebd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  Congress of Industrial Organization (CIO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ganized skilled and unskilled workers in the auto and steel indust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.  Sit down Strik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676520" y="990720"/>
            <a:ext cx="53575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they smile and say, no raise in pa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t down! Sit down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you want the boss to come acro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t down! Sit down!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- Sit-down strikers' song of the 1930s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6" name="Picture 4" descr="flint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3019320"/>
            <a:ext cx="49528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.  Social Security Ac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nsurance for the retir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- 65 y/o or medically retired; worker and spou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Unemployment Benefit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id by employ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4" descr="Social Security Online - The Official Website of the Social Security Administration"/>
          <p:cNvPicPr/>
          <p:nvPr/>
        </p:nvPicPr>
        <p:blipFill>
          <a:blip r:embed="rId1"/>
          <a:stretch/>
        </p:blipFill>
        <p:spPr>
          <a:xfrm>
            <a:off x="304920" y="5257800"/>
            <a:ext cx="4647960" cy="94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sp.life123.com/bm.pix/understanding-social-security-senior-couple.s600x600.jpg"/>
          <p:cNvPicPr/>
          <p:nvPr/>
        </p:nvPicPr>
        <p:blipFill>
          <a:blip r:embed="rId2"/>
          <a:stretch/>
        </p:blipFill>
        <p:spPr>
          <a:xfrm>
            <a:off x="4216320" y="1219320"/>
            <a:ext cx="4765680" cy="316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ts2.mm.bing.net/images/thumbnail.aspx?q=1342940066929&amp;id=29737145250c2595ffcfd01a2ca87821&amp;url=http%3a%2f%2faboutfacts.net%2fElse%2fE289%2fPD%2fSocial_Security_card.jpg"/>
          <p:cNvPicPr/>
          <p:nvPr/>
        </p:nvPicPr>
        <p:blipFill>
          <a:blip r:embed="rId3"/>
          <a:stretch/>
        </p:blipFill>
        <p:spPr>
          <a:xfrm>
            <a:off x="5410080" y="4572000"/>
            <a:ext cx="2857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6" name="Picture 8" descr="http://dailynewspulse.com/wp-content/uploads/2011/02/Social-Security.jpg"/>
          <p:cNvPicPr/>
          <p:nvPr/>
        </p:nvPicPr>
        <p:blipFill>
          <a:blip r:embed="rId1"/>
          <a:stretch/>
        </p:blipFill>
        <p:spPr>
          <a:xfrm>
            <a:off x="0" y="573120"/>
            <a:ext cx="913284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1:37:26Z</dcterms:created>
  <dc:creator> </dc:creator>
  <dc:description/>
  <dc:language>en-US</dc:language>
  <cp:lastModifiedBy>SUPER</cp:lastModifiedBy>
  <dcterms:modified xsi:type="dcterms:W3CDTF">2011-12-12T02:21:36Z</dcterms:modified>
  <cp:revision>9</cp:revision>
  <dc:subject/>
  <dc:title>12.2:  The Second New Deal</dc:title>
</cp:coreProperties>
</file>